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3642-337A-4A72-8922-B2E2B93E1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ffffff"/>
              </a:solidFill>
              <a:uFillTx/>
              <a:latin typeface="Broadway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roadway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roadway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975F-FBC5-453E-ADE1-BDD0370A3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ffffff"/>
              </a:solidFill>
              <a:uFillTx/>
              <a:latin typeface="Broadway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roadway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roadway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roadway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roadway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46AE-1001-4CCF-AD1F-6EE7752E8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ffffff"/>
              </a:solidFill>
              <a:uFillTx/>
              <a:latin typeface="Broadway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roadway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roadway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roadway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roadway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roadway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roadway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6A30-35B1-4C40-8AE0-806E79AC0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ffffff"/>
              </a:solidFill>
              <a:uFillTx/>
              <a:latin typeface="Broadway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roadwa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6F97-3022-4A2D-8C8F-6C6BC2BBD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ffffff"/>
              </a:solidFill>
              <a:uFillTx/>
              <a:latin typeface="Broadway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roadwa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013A-5E2F-4B0B-A436-B4CCA660A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ffffff"/>
              </a:solidFill>
              <a:uFillTx/>
              <a:latin typeface="Broadway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roadway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roadway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7A18-3172-487A-AE48-0DF9582E4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ffffff"/>
              </a:solidFill>
              <a:uFillTx/>
              <a:latin typeface="Broadwa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B29E-02EC-4201-B887-ADC315EC4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roadwa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AA58-95D6-4593-B5E1-5E49CE6CD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ffffff"/>
              </a:solidFill>
              <a:uFillTx/>
              <a:latin typeface="Broadway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roadway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roadway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roadwa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8E0F-F695-4E54-95BD-A660CF18C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ffffff"/>
              </a:solidFill>
              <a:uFillTx/>
              <a:latin typeface="Broadway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roadway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roadway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roadwa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34F7-F80A-4A3C-9A40-C28DEF0DD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ffffff"/>
              </a:solidFill>
              <a:uFillTx/>
              <a:latin typeface="Broadway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roadway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roadway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roadwa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BEDA-7557-4D48-A4DD-441062352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Broadway"/>
              </a:rPr>
              <a:t>Click to edit the title text format</a:t>
            </a:r>
            <a:endParaRPr b="0" lang="en-US" sz="4400" spc="-1" strike="noStrike" u="sng">
              <a:solidFill>
                <a:srgbClr val="ffffff"/>
              </a:solidFill>
              <a:uFillTx/>
              <a:latin typeface="Broadway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roadway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Broadway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Broadwa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roadway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Broadway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roadway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Broadway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Broadwa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roadway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Broadway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Broadwa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roadway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Broadway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Broadwa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roadway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Broadway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Broadwa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roadway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Broadway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E7F4B-158C-49D0-915F-5C263AE2D1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en.wikipedia.org/wiki/Music_history" TargetMode="External"/><Relationship Id="rId2" Type="http://schemas.openxmlformats.org/officeDocument/2006/relationships/hyperlink" Target="http://www.music.us/biography/" TargetMode="External"/><Relationship Id="rId3" Type="http://schemas.openxmlformats.org/officeDocument/2006/relationships/hyperlink" Target="http://www.sing365.com/music/lyric.nsf/The-Music-Biography/A4E290E370CE6F4348256F24002B8867" TargetMode="External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Broadway"/>
              </a:rPr>
              <a:t>What’s Your Rhythm?</a:t>
            </a:r>
            <a:endParaRPr b="0" lang="en-US" sz="4400" spc="-1" strike="noStrike" u="sng">
              <a:solidFill>
                <a:srgbClr val="ffffff"/>
              </a:solidFill>
              <a:uFillTx/>
              <a:latin typeface="Broadway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143000" y="1295280"/>
            <a:ext cx="6019920" cy="42800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286000" y="6019920"/>
            <a:ext cx="449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oadway"/>
              </a:rPr>
              <a:t>By: Baylee Mask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Broadway"/>
              </a:rPr>
              <a:t>Major Observations</a:t>
            </a:r>
            <a:endParaRPr b="0" lang="en-US" sz="4400" spc="-1" strike="noStrike" u="sng">
              <a:solidFill>
                <a:srgbClr val="ffffff"/>
              </a:solidFill>
              <a:uFillTx/>
              <a:latin typeface="Broadway"/>
            </a:endParaRPr>
          </a:p>
        </p:txBody>
      </p:sp>
      <p:sp>
        <p:nvSpPr>
          <p:cNvPr id="63" name=""/>
          <p:cNvSpPr/>
          <p:nvPr/>
        </p:nvSpPr>
        <p:spPr>
          <a:xfrm>
            <a:off x="1295280" y="2666880"/>
            <a:ext cx="586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roadway"/>
              </a:rPr>
              <a:t>People with music were being silly. They were focusing on the music and not draw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Broadway"/>
              </a:rPr>
              <a:t>Possible Causes of Error</a:t>
            </a:r>
            <a:endParaRPr b="0" lang="en-US" sz="4400" spc="-1" strike="noStrike" u="sng">
              <a:solidFill>
                <a:srgbClr val="ffffff"/>
              </a:solidFill>
              <a:uFillTx/>
              <a:latin typeface="Broadway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2895480"/>
            <a:ext cx="6781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roadway"/>
              </a:rPr>
              <a:t>-There was music playing while testing when their wasn’t supposed to 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roadway"/>
              </a:rPr>
              <a:t>-People were acting si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roadway"/>
              </a:rPr>
              <a:t>-They were tal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roadway"/>
              </a:rPr>
              <a:t>-They would hear the song and start singing or dan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roadway"/>
              </a:rPr>
              <a:t>-They tried to rush through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Broadway"/>
              </a:rPr>
              <a:t>Further Research</a:t>
            </a:r>
            <a:endParaRPr b="0" lang="en-US" sz="4400" spc="-1" strike="noStrike" u="sng">
              <a:solidFill>
                <a:srgbClr val="ffffff"/>
              </a:solidFill>
              <a:uFillTx/>
              <a:latin typeface="Broadway"/>
            </a:endParaRPr>
          </a:p>
        </p:txBody>
      </p:sp>
      <p:sp>
        <p:nvSpPr>
          <p:cNvPr id="67" name=""/>
          <p:cNvSpPr/>
          <p:nvPr/>
        </p:nvSpPr>
        <p:spPr>
          <a:xfrm>
            <a:off x="1295280" y="2743200"/>
            <a:ext cx="6019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oadway"/>
              </a:rPr>
              <a:t>You could see if music helps little kids vs. older kid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Broadway"/>
              </a:rPr>
              <a:t>Time Spent</a:t>
            </a:r>
            <a:endParaRPr b="0" lang="en-US" sz="4400" spc="-1" strike="noStrike" u="sng">
              <a:solidFill>
                <a:srgbClr val="ffffff"/>
              </a:solidFill>
              <a:uFillTx/>
              <a:latin typeface="Broadway"/>
            </a:endParaRPr>
          </a:p>
        </p:txBody>
      </p:sp>
      <p:sp>
        <p:nvSpPr>
          <p:cNvPr id="69" name=""/>
          <p:cNvSpPr/>
          <p:nvPr/>
        </p:nvSpPr>
        <p:spPr>
          <a:xfrm>
            <a:off x="1371600" y="281952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oadway"/>
              </a:rPr>
              <a:t>All science fair workday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Broadway"/>
              </a:rPr>
              <a:t>Acknowledgements</a:t>
            </a:r>
            <a:endParaRPr b="0" lang="en-US" sz="4400" spc="-1" strike="noStrike" u="sng">
              <a:solidFill>
                <a:srgbClr val="ffffff"/>
              </a:solidFill>
              <a:uFillTx/>
              <a:latin typeface="Broadway"/>
            </a:endParaRPr>
          </a:p>
        </p:txBody>
      </p:sp>
      <p:sp>
        <p:nvSpPr>
          <p:cNvPr id="71" name=""/>
          <p:cNvSpPr/>
          <p:nvPr/>
        </p:nvSpPr>
        <p:spPr>
          <a:xfrm>
            <a:off x="1295280" y="2438280"/>
            <a:ext cx="617220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roadway"/>
              </a:rPr>
              <a:t>I want to thanks Mrs. Riffel for providing all the time I had, Mrs. Calderwood for rating everyone’s picture, and all students that took the test.  </a:t>
            </a:r>
            <a:r>
              <a:rPr b="0" lang="en-US" sz="60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Broadway"/>
              </a:rPr>
              <a:t>Works Cited</a:t>
            </a:r>
            <a:endParaRPr b="0" lang="en-US" sz="4400" spc="-1" strike="noStrike" u="sng">
              <a:solidFill>
                <a:srgbClr val="ffffff"/>
              </a:solidFill>
              <a:uFillTx/>
              <a:latin typeface="Broadway"/>
            </a:endParaRPr>
          </a:p>
        </p:txBody>
      </p:sp>
      <p:sp>
        <p:nvSpPr>
          <p:cNvPr id="73" name=""/>
          <p:cNvSpPr/>
          <p:nvPr/>
        </p:nvSpPr>
        <p:spPr>
          <a:xfrm>
            <a:off x="533520" y="2209680"/>
            <a:ext cx="79246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Music Histor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(n.d.). Retrieved January 4, 2012, from Wikipedia website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en.wikipedia.org/wiki/Music_his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"Music Artists."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Music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N.p., Web. 4 Jan. 2012.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music.us/biography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"The Music Biography."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N.p., Web. 3 J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sing365.com/music/lyric.nsf/The-Music-	Biography/A4E290E370CE6F4348256F24002B8867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Broadway"/>
              </a:rPr>
              <a:t>Problem</a:t>
            </a:r>
            <a:endParaRPr b="0" lang="en-US" sz="4400" spc="-1" strike="noStrike" u="sng">
              <a:solidFill>
                <a:srgbClr val="ffffff"/>
              </a:solidFill>
              <a:uFillTx/>
              <a:latin typeface="Broadway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182880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roadway"/>
              </a:rPr>
              <a:t>What effect does music have on your artistic skill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666880" y="3733920"/>
            <a:ext cx="335304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Broadway"/>
              </a:rPr>
              <a:t>Introduction</a:t>
            </a:r>
            <a:endParaRPr b="0" lang="en-US" sz="4400" spc="-1" strike="noStrike" u="sng">
              <a:solidFill>
                <a:srgbClr val="ffffff"/>
              </a:solidFill>
              <a:uFillTx/>
              <a:latin typeface="Broadway"/>
            </a:endParaRPr>
          </a:p>
        </p:txBody>
      </p:sp>
      <p:sp>
        <p:nvSpPr>
          <p:cNvPr id="48" name=""/>
          <p:cNvSpPr/>
          <p:nvPr/>
        </p:nvSpPr>
        <p:spPr>
          <a:xfrm>
            <a:off x="838080" y="4800600"/>
            <a:ext cx="7010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oadway"/>
              </a:rPr>
              <a:t>This is further research on my project last y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590920" y="1523880"/>
            <a:ext cx="3429000" cy="27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Broadway"/>
              </a:rPr>
              <a:t>Background Info.</a:t>
            </a:r>
            <a:endParaRPr b="0" lang="en-US" sz="4400" spc="-1" strike="noStrike" u="sng">
              <a:solidFill>
                <a:srgbClr val="ffffff"/>
              </a:solidFill>
              <a:uFillTx/>
              <a:latin typeface="Broadway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1905120"/>
            <a:ext cx="7543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000" spc="-1" strike="noStrike">
                <a:solidFill>
                  <a:srgbClr val="ffffff"/>
                </a:solidFill>
                <a:latin typeface="Broadway"/>
              </a:rPr>
              <a:t>Music</a:t>
            </a:r>
            <a:r>
              <a:rPr b="0" lang="en" sz="2000" spc="-1" strike="noStrike">
                <a:solidFill>
                  <a:srgbClr val="ffffff"/>
                </a:solidFill>
                <a:latin typeface="Broadway"/>
              </a:rPr>
              <a:t> is an art form whose medium is sound and silence. Its common elements are pitch, rhythm, dynamics, and the sonic qualities of timbre and tex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Broadway"/>
              </a:rPr>
              <a:t>Hypothesis</a:t>
            </a:r>
            <a:endParaRPr b="0" lang="en-US" sz="4400" spc="-1" strike="noStrike" u="sng">
              <a:solidFill>
                <a:srgbClr val="ffffff"/>
              </a:solidFill>
              <a:uFillTx/>
              <a:latin typeface="Broadway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2286000"/>
            <a:ext cx="75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oadway"/>
              </a:rPr>
              <a:t>My hypothesis is that they will get it done faster with music than witho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Broadway"/>
              </a:rPr>
              <a:t>Materials</a:t>
            </a:r>
            <a:endParaRPr b="0" lang="en-US" sz="4400" spc="-1" strike="noStrike" u="sng">
              <a:solidFill>
                <a:srgbClr val="ffffff"/>
              </a:solidFill>
              <a:uFillTx/>
              <a:latin typeface="Broadway"/>
            </a:endParaRPr>
          </a:p>
        </p:txBody>
      </p:sp>
      <p:sp>
        <p:nvSpPr>
          <p:cNvPr id="55" name=""/>
          <p:cNvSpPr/>
          <p:nvPr/>
        </p:nvSpPr>
        <p:spPr>
          <a:xfrm>
            <a:off x="1600200" y="2286000"/>
            <a:ext cx="60199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roadway"/>
              </a:rPr>
              <a:t>9 people to be with mus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roadway"/>
              </a:rPr>
              <a:t>9 people to be without mus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roadway"/>
              </a:rPr>
              <a:t>mus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roadway"/>
              </a:rPr>
              <a:t>worksheet I m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roadway"/>
              </a:rPr>
              <a:t>stopwat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Broadway"/>
              </a:rPr>
              <a:t>Procedure</a:t>
            </a:r>
            <a:endParaRPr b="0" lang="en-US" sz="4400" spc="-1" strike="noStrike" u="sng">
              <a:solidFill>
                <a:srgbClr val="ffffff"/>
              </a:solidFill>
              <a:uFillTx/>
              <a:latin typeface="Broadway"/>
            </a:endParaRPr>
          </a:p>
        </p:txBody>
      </p:sp>
      <p:sp>
        <p:nvSpPr>
          <p:cNvPr id="57" name=""/>
          <p:cNvSpPr/>
          <p:nvPr/>
        </p:nvSpPr>
        <p:spPr>
          <a:xfrm>
            <a:off x="1295280" y="2286000"/>
            <a:ext cx="6705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roadway"/>
              </a:rPr>
              <a:t>1. Take 10 kids (5 partnershi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roadway"/>
              </a:rPr>
              <a:t>2. Explain th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roadway"/>
              </a:rPr>
              <a:t>3. Play music while they do the worksh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roadway"/>
              </a:rPr>
              <a:t>4. When done timing write the score on the top of the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roadway"/>
              </a:rPr>
              <a:t>5. Repeat 1-4, without mus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Broadway"/>
              </a:rPr>
              <a:t>Variables</a:t>
            </a:r>
            <a:endParaRPr b="0" lang="en-US" sz="4400" spc="-1" strike="noStrike" u="sng">
              <a:solidFill>
                <a:srgbClr val="ffffff"/>
              </a:solidFill>
              <a:uFillTx/>
              <a:latin typeface="Broadway"/>
            </a:endParaRPr>
          </a:p>
        </p:txBody>
      </p:sp>
      <p:sp>
        <p:nvSpPr>
          <p:cNvPr id="59" name=""/>
          <p:cNvSpPr/>
          <p:nvPr/>
        </p:nvSpPr>
        <p:spPr>
          <a:xfrm>
            <a:off x="1143000" y="2743200"/>
            <a:ext cx="655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roadway"/>
              </a:rPr>
              <a:t>Independent – Mus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roadway"/>
              </a:rPr>
              <a:t>Dependent – Artistic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roadway"/>
              </a:rPr>
              <a:t>Controlled – 9 people take the test with music; 9 people take wit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Broadway"/>
              </a:rPr>
              <a:t>Conclusion</a:t>
            </a:r>
            <a:endParaRPr b="0" lang="en-US" sz="4400" spc="-1" strike="noStrike" u="sng">
              <a:solidFill>
                <a:srgbClr val="ffffff"/>
              </a:solidFill>
              <a:uFillTx/>
              <a:latin typeface="Broadway"/>
            </a:endParaRPr>
          </a:p>
        </p:txBody>
      </p:sp>
      <p:sp>
        <p:nvSpPr>
          <p:cNvPr id="61" name=""/>
          <p:cNvSpPr/>
          <p:nvPr/>
        </p:nvSpPr>
        <p:spPr>
          <a:xfrm>
            <a:off x="1066680" y="2438280"/>
            <a:ext cx="6705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roadway"/>
              </a:rPr>
              <a:t>In conclusion, my results show that people without music did better but they also took longer. My hypothesis is wro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8T14:50:43Z</dcterms:created>
  <dc:creator>USD376</dc:creator>
  <dc:description/>
  <dc:language>en-US</dc:language>
  <cp:lastModifiedBy>USD376</cp:lastModifiedBy>
  <dcterms:modified xsi:type="dcterms:W3CDTF">2012-03-08T15:04:58Z</dcterms:modified>
  <cp:revision>2</cp:revision>
  <dc:subject/>
  <dc:title>What’s Your Rhythm?</dc:title>
</cp:coreProperties>
</file>